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gif" ContentType="image/gi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FA9F-1946-4D2E-9B68-050CD1AF2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B26F-3FF1-4865-BBD7-C96CF29B0DD2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A90B-EFE7-4465-8329-AD470DA4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224-015D-4C5E-A0BC-589FB7F5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F26-DE03-49E6-95E3-81E91C4B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19C-09AE-459C-A9BC-D4F1B45B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7348-6DE9-4366-99B7-F8DFB57D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7FAB-DB30-477A-A5A1-7ED93A2A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3E42-D437-46BE-9D89-D6B1040F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6AB6-7A93-46AD-BEEC-D0808D2E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8C30-D1B4-4DE1-9256-0467582F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E113-34D9-4F81-AF9E-D16499C4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405E-B700-4DE2-B52E-B3F13290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2349-1663-4F2D-BCD7-DB04CF54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6C6B-74AF-4ABF-AB7D-FF30389E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55E8-12BB-4EF0-BE38-816ECF2E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7E2F-5AF8-4C40-B036-C29371D7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7BD4-81E0-4A16-AD72-D26DB740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7ACA-DF12-474A-B10C-D9914AF3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092-FB54-465D-A7FA-0556E357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5F22-4987-4972-AAC8-8EB07CFA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9648-8BA1-4F31-90FC-B8DFF79F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A819-7291-462C-A479-C46A01CC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A3D5-91CF-40FB-AA88-E37834DA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01D-61C6-4E04-8CEB-2E172C26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4634-2CFD-423F-8612-F265ADEE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C182-79F2-48B2-9A3A-A1FE2D7FD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E411-328B-4E30-9412-A5BDA1B15B59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4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854064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572"/>
                </a:solidFill>
                <a:latin typeface="Arial"/>
              </a:rPr>
              <a:t>简单的分数应用问题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2732760" y="2428920"/>
            <a:ext cx="34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ee you!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90560" y="2143080"/>
            <a:ext cx="83534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Times New Roman"/>
              </a:rPr>
              <a:t>赵明看了一本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  <a:ea typeface="Times New Roman"/>
              </a:rPr>
              <a:t>120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Times New Roman"/>
              </a:rPr>
              <a:t>页的故事书，已经看了这本书的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  <a:ea typeface="Times New Roman"/>
              </a:rPr>
              <a:t>1/4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Times New Roman"/>
              </a:rPr>
              <a:t>，已经看了多少页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Times New Roman"/>
              </a:rPr>
              <a:t>想：要求出已经看了多少页，就是（          ）是多少，列式为（            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572160" y="3297240"/>
            <a:ext cx="19288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572"/>
                </a:solidFill>
                <a:latin typeface="宋体"/>
                <a:ea typeface="Times New Roman"/>
              </a:rPr>
              <a:t>120</a:t>
            </a:r>
            <a:r>
              <a:rPr b="1" lang="zh-CN" sz="3200" spc="-1" strike="noStrike">
                <a:solidFill>
                  <a:srgbClr val="007572"/>
                </a:solidFill>
                <a:latin typeface="宋体"/>
                <a:ea typeface="Times New Roman"/>
              </a:rPr>
              <a:t>的</a:t>
            </a:r>
            <a:r>
              <a:rPr b="1" lang="en-US" sz="3200" spc="-1" strike="noStrike">
                <a:solidFill>
                  <a:srgbClr val="007572"/>
                </a:solidFill>
                <a:latin typeface="宋体"/>
                <a:ea typeface="Times New Roman"/>
              </a:rPr>
              <a:t>1/4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4357800" y="3654360"/>
            <a:ext cx="19288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572"/>
                </a:solidFill>
                <a:latin typeface="宋体"/>
                <a:ea typeface="Times New Roman"/>
              </a:rPr>
              <a:t>120÷4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857160" y="857160"/>
            <a:ext cx="19288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Times New Roman"/>
              </a:rPr>
              <a:t>填一填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3"/>
          <p:cNvSpPr/>
          <p:nvPr/>
        </p:nvSpPr>
        <p:spPr>
          <a:xfrm>
            <a:off x="428760" y="1071720"/>
            <a:ext cx="85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总营业额是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200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元，其中福娃的营业额占    。福娃的营业额是多少元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5" name="组合 58"/>
          <p:cNvGrpSpPr/>
          <p:nvPr/>
        </p:nvGrpSpPr>
        <p:grpSpPr>
          <a:xfrm>
            <a:off x="1003320" y="1494000"/>
            <a:ext cx="741240" cy="1099800"/>
            <a:chOff x="1003320" y="1494000"/>
            <a:chExt cx="741240" cy="1099800"/>
          </a:xfrm>
        </p:grpSpPr>
        <p:sp>
          <p:nvSpPr>
            <p:cNvPr id="96" name="直接连接符 60"/>
            <p:cNvSpPr/>
            <p:nvPr/>
          </p:nvSpPr>
          <p:spPr>
            <a:xfrm>
              <a:off x="1028520" y="2043000"/>
              <a:ext cx="39528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" name="文本框 36"/>
            <p:cNvSpPr/>
            <p:nvPr/>
          </p:nvSpPr>
          <p:spPr>
            <a:xfrm>
              <a:off x="1025280" y="1494000"/>
              <a:ext cx="71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2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" name="文本框 37"/>
            <p:cNvSpPr/>
            <p:nvPr/>
          </p:nvSpPr>
          <p:spPr>
            <a:xfrm>
              <a:off x="1003320" y="195120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9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9" name="组合 6"/>
          <p:cNvGrpSpPr/>
          <p:nvPr/>
        </p:nvGrpSpPr>
        <p:grpSpPr>
          <a:xfrm>
            <a:off x="456840" y="2755800"/>
            <a:ext cx="5234400" cy="3417480"/>
            <a:chOff x="456840" y="2755800"/>
            <a:chExt cx="5234400" cy="3417480"/>
          </a:xfrm>
        </p:grpSpPr>
        <p:sp>
          <p:nvSpPr>
            <p:cNvPr id="100" name="直接连接符 5"/>
            <p:cNvSpPr/>
            <p:nvPr/>
          </p:nvSpPr>
          <p:spPr>
            <a:xfrm>
              <a:off x="457200" y="4195800"/>
              <a:ext cx="5232600" cy="172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" name="直接连接符 7"/>
            <p:cNvSpPr/>
            <p:nvPr/>
          </p:nvSpPr>
          <p:spPr>
            <a:xfrm flipV="1">
              <a:off x="457200" y="4050720"/>
              <a:ext cx="0" cy="1443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" name="直接连接符 59"/>
            <p:cNvSpPr/>
            <p:nvPr/>
          </p:nvSpPr>
          <p:spPr>
            <a:xfrm flipV="1">
              <a:off x="1050840" y="4050720"/>
              <a:ext cx="0" cy="1443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" name="直接连接符 68"/>
            <p:cNvSpPr/>
            <p:nvPr/>
          </p:nvSpPr>
          <p:spPr>
            <a:xfrm flipV="1">
              <a:off x="1658880" y="4047480"/>
              <a:ext cx="0" cy="1443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" name="直接连接符 70"/>
            <p:cNvSpPr/>
            <p:nvPr/>
          </p:nvSpPr>
          <p:spPr>
            <a:xfrm flipV="1">
              <a:off x="2192400" y="4047480"/>
              <a:ext cx="0" cy="1443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" name="直接连接符 74"/>
            <p:cNvSpPr/>
            <p:nvPr/>
          </p:nvSpPr>
          <p:spPr>
            <a:xfrm flipV="1">
              <a:off x="2732040" y="4032000"/>
              <a:ext cx="0" cy="1425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" name="直接连接符 75"/>
            <p:cNvSpPr/>
            <p:nvPr/>
          </p:nvSpPr>
          <p:spPr>
            <a:xfrm flipV="1">
              <a:off x="3348000" y="4025520"/>
              <a:ext cx="0" cy="1443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" name="直接连接符 76"/>
            <p:cNvSpPr/>
            <p:nvPr/>
          </p:nvSpPr>
          <p:spPr>
            <a:xfrm flipV="1">
              <a:off x="3915000" y="4033440"/>
              <a:ext cx="0" cy="1443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" name="直接连接符 77"/>
            <p:cNvSpPr/>
            <p:nvPr/>
          </p:nvSpPr>
          <p:spPr>
            <a:xfrm flipV="1">
              <a:off x="4491000" y="4047480"/>
              <a:ext cx="0" cy="1443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" name="直接连接符 78"/>
            <p:cNvSpPr/>
            <p:nvPr/>
          </p:nvSpPr>
          <p:spPr>
            <a:xfrm flipV="1">
              <a:off x="5140440" y="4078080"/>
              <a:ext cx="0" cy="1425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" name="直接连接符 79"/>
            <p:cNvSpPr/>
            <p:nvPr/>
          </p:nvSpPr>
          <p:spPr>
            <a:xfrm flipV="1">
              <a:off x="5691240" y="4033440"/>
              <a:ext cx="0" cy="1443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" name="左大括号 15"/>
            <p:cNvSpPr/>
            <p:nvPr/>
          </p:nvSpPr>
          <p:spPr>
            <a:xfrm rot="5400000">
              <a:off x="2773080" y="1104120"/>
              <a:ext cx="600120" cy="5232600"/>
            </a:xfrm>
            <a:custGeom>
              <a:avLst/>
              <a:gdLst>
                <a:gd name="textAreaLeft" fmla="*/ 383400 w 600120"/>
                <a:gd name="textAreaRight" fmla="*/ 600480 w 600120"/>
                <a:gd name="textAreaTop" fmla="*/ 15480 h 5232600"/>
                <a:gd name="textAreaBottom" fmla="*/ 5217120 h 523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3"/>
                    <a:pt x="10800" y="206"/>
                  </a:cubicBezTo>
                  <a:lnTo>
                    <a:pt x="10800" y="10475"/>
                  </a:lnTo>
                  <a:cubicBezTo>
                    <a:pt x="10800" y="10578"/>
                    <a:pt x="5400" y="10681"/>
                    <a:pt x="0" y="10681"/>
                  </a:cubicBezTo>
                  <a:cubicBezTo>
                    <a:pt x="5400" y="10681"/>
                    <a:pt x="10800" y="10784"/>
                    <a:pt x="10800" y="10887"/>
                  </a:cubicBezTo>
                  <a:lnTo>
                    <a:pt x="10800" y="21394"/>
                  </a:lnTo>
                  <a:cubicBezTo>
                    <a:pt x="10800" y="2149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12" name="组合 86"/>
            <p:cNvGrpSpPr/>
            <p:nvPr/>
          </p:nvGrpSpPr>
          <p:grpSpPr>
            <a:xfrm>
              <a:off x="887400" y="2755800"/>
              <a:ext cx="752400" cy="1082160"/>
              <a:chOff x="887400" y="2755800"/>
              <a:chExt cx="752400" cy="1082160"/>
            </a:xfrm>
          </p:grpSpPr>
          <p:sp>
            <p:nvSpPr>
              <p:cNvPr id="113" name="直接连接符 88"/>
              <p:cNvSpPr/>
              <p:nvPr/>
            </p:nvSpPr>
            <p:spPr>
              <a:xfrm>
                <a:off x="887400" y="3303360"/>
                <a:ext cx="39528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4" name="文本框 36"/>
              <p:cNvSpPr/>
              <p:nvPr/>
            </p:nvSpPr>
            <p:spPr>
              <a:xfrm>
                <a:off x="905040" y="325656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cc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5" name="文本框 36"/>
              <p:cNvSpPr/>
              <p:nvPr/>
            </p:nvSpPr>
            <p:spPr>
              <a:xfrm>
                <a:off x="920520" y="2755800"/>
                <a:ext cx="719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cc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16" name="左大括号 19"/>
            <p:cNvSpPr/>
            <p:nvPr/>
          </p:nvSpPr>
          <p:spPr>
            <a:xfrm rot="5400000">
              <a:off x="872280" y="3369240"/>
              <a:ext cx="380880" cy="115416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9720 h 1154160"/>
                <a:gd name="textAreaBottom" fmla="*/ 1144440 h 11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97"/>
                    <a:pt x="10800" y="594"/>
                  </a:cubicBezTo>
                  <a:lnTo>
                    <a:pt x="10800" y="10206"/>
                  </a:lnTo>
                  <a:cubicBezTo>
                    <a:pt x="10800" y="10503"/>
                    <a:pt x="5400" y="10800"/>
                    <a:pt x="0" y="10800"/>
                  </a:cubicBezTo>
                  <a:cubicBezTo>
                    <a:pt x="5400" y="10800"/>
                    <a:pt x="10800" y="11097"/>
                    <a:pt x="10800" y="11394"/>
                  </a:cubicBezTo>
                  <a:lnTo>
                    <a:pt x="10800" y="21006"/>
                  </a:lnTo>
                  <a:cubicBezTo>
                    <a:pt x="10800" y="21303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" name="左大括号 97"/>
            <p:cNvSpPr/>
            <p:nvPr/>
          </p:nvSpPr>
          <p:spPr>
            <a:xfrm rot="16200000">
              <a:off x="2872440" y="2791080"/>
              <a:ext cx="414360" cy="5220000"/>
            </a:xfrm>
            <a:custGeom>
              <a:avLst/>
              <a:gdLst>
                <a:gd name="textAreaLeft" fmla="*/ 264960 w 414360"/>
                <a:gd name="textAreaRight" fmla="*/ 414720 w 414360"/>
                <a:gd name="textAreaTop" fmla="*/ 10800 h 5220000"/>
                <a:gd name="textAreaBottom" fmla="*/ 5209200 h 522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2"/>
                    <a:pt x="10800" y="143"/>
                  </a:cubicBezTo>
                  <a:lnTo>
                    <a:pt x="10800" y="10657"/>
                  </a:lnTo>
                  <a:cubicBezTo>
                    <a:pt x="10800" y="10729"/>
                    <a:pt x="5400" y="10800"/>
                    <a:pt x="0" y="10800"/>
                  </a:cubicBezTo>
                  <a:cubicBezTo>
                    <a:pt x="5400" y="10800"/>
                    <a:pt x="10800" y="10872"/>
                    <a:pt x="10800" y="10943"/>
                  </a:cubicBezTo>
                  <a:lnTo>
                    <a:pt x="10800" y="21457"/>
                  </a:lnTo>
                  <a:cubicBezTo>
                    <a:pt x="10800" y="21529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" name="文本框 3"/>
            <p:cNvSpPr/>
            <p:nvPr/>
          </p:nvSpPr>
          <p:spPr>
            <a:xfrm>
              <a:off x="3040920" y="2806560"/>
              <a:ext cx="88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9" name="左大括号 64"/>
            <p:cNvSpPr/>
            <p:nvPr/>
          </p:nvSpPr>
          <p:spPr>
            <a:xfrm rot="16200000">
              <a:off x="881640" y="3838680"/>
              <a:ext cx="347400" cy="1139760"/>
            </a:xfrm>
            <a:custGeom>
              <a:avLst/>
              <a:gdLst>
                <a:gd name="textAreaLeft" fmla="*/ 222120 w 347400"/>
                <a:gd name="textAreaRight" fmla="*/ 347400 w 347400"/>
                <a:gd name="textAreaTop" fmla="*/ 9000 h 1139760"/>
                <a:gd name="textAreaBottom" fmla="*/ 1130760 h 11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75"/>
                    <a:pt x="10800" y="549"/>
                  </a:cubicBezTo>
                  <a:lnTo>
                    <a:pt x="10800" y="10251"/>
                  </a:lnTo>
                  <a:cubicBezTo>
                    <a:pt x="10800" y="10526"/>
                    <a:pt x="5400" y="10800"/>
                    <a:pt x="0" y="10800"/>
                  </a:cubicBezTo>
                  <a:cubicBezTo>
                    <a:pt x="5400" y="10800"/>
                    <a:pt x="10800" y="11075"/>
                    <a:pt x="10800" y="11349"/>
                  </a:cubicBezTo>
                  <a:lnTo>
                    <a:pt x="10800" y="21051"/>
                  </a:lnTo>
                  <a:cubicBezTo>
                    <a:pt x="10800" y="2132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" name="矩形 4"/>
            <p:cNvSpPr/>
            <p:nvPr/>
          </p:nvSpPr>
          <p:spPr>
            <a:xfrm>
              <a:off x="485640" y="4662360"/>
              <a:ext cx="979560" cy="399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1" name="文本框 3"/>
            <p:cNvSpPr/>
            <p:nvPr/>
          </p:nvSpPr>
          <p:spPr>
            <a:xfrm>
              <a:off x="1445760" y="4512240"/>
              <a:ext cx="83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元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" name="文本框 3"/>
            <p:cNvSpPr/>
            <p:nvPr/>
          </p:nvSpPr>
          <p:spPr>
            <a:xfrm>
              <a:off x="2471760" y="5530680"/>
              <a:ext cx="156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7200</a:t>
              </a:r>
              <a:r>
                <a:rPr b="1" lang="zh-CN" sz="36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元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23" name="组合 10"/>
          <p:cNvGrpSpPr/>
          <p:nvPr/>
        </p:nvGrpSpPr>
        <p:grpSpPr>
          <a:xfrm>
            <a:off x="5761080" y="2832120"/>
            <a:ext cx="2981160" cy="969840"/>
            <a:chOff x="5761080" y="2832120"/>
            <a:chExt cx="2981160" cy="969840"/>
          </a:xfrm>
        </p:grpSpPr>
        <p:sp>
          <p:nvSpPr>
            <p:cNvPr id="124" name="文本框 3"/>
            <p:cNvSpPr/>
            <p:nvPr/>
          </p:nvSpPr>
          <p:spPr>
            <a:xfrm>
              <a:off x="5761080" y="3067200"/>
              <a:ext cx="298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求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7200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元的    ，用乘法计算。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25" name="组合 89"/>
            <p:cNvGrpSpPr/>
            <p:nvPr/>
          </p:nvGrpSpPr>
          <p:grpSpPr>
            <a:xfrm>
              <a:off x="7680600" y="2832120"/>
              <a:ext cx="721800" cy="969840"/>
              <a:chOff x="7680600" y="2832120"/>
              <a:chExt cx="721800" cy="969840"/>
            </a:xfrm>
          </p:grpSpPr>
          <p:sp>
            <p:nvSpPr>
              <p:cNvPr id="126" name="直接连接符 90"/>
              <p:cNvSpPr/>
              <p:nvPr/>
            </p:nvSpPr>
            <p:spPr>
              <a:xfrm>
                <a:off x="7705440" y="3313440"/>
                <a:ext cx="39528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27" name="文本框 36"/>
              <p:cNvSpPr/>
              <p:nvPr/>
            </p:nvSpPr>
            <p:spPr>
              <a:xfrm>
                <a:off x="7683480" y="2832120"/>
                <a:ext cx="718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cc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28" name="文本框 37"/>
              <p:cNvSpPr/>
              <p:nvPr/>
            </p:nvSpPr>
            <p:spPr>
              <a:xfrm>
                <a:off x="7680600" y="3220560"/>
                <a:ext cx="72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cc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组合 8"/>
          <p:cNvGrpSpPr/>
          <p:nvPr/>
        </p:nvGrpSpPr>
        <p:grpSpPr>
          <a:xfrm>
            <a:off x="5646600" y="3940200"/>
            <a:ext cx="3714840" cy="969840"/>
            <a:chOff x="5646600" y="3940200"/>
            <a:chExt cx="3714840" cy="969840"/>
          </a:xfrm>
        </p:grpSpPr>
        <p:grpSp>
          <p:nvGrpSpPr>
            <p:cNvPr id="130" name="组合 94"/>
            <p:cNvGrpSpPr/>
            <p:nvPr/>
          </p:nvGrpSpPr>
          <p:grpSpPr>
            <a:xfrm>
              <a:off x="6889680" y="3940200"/>
              <a:ext cx="722160" cy="969840"/>
              <a:chOff x="6889680" y="3940200"/>
              <a:chExt cx="722160" cy="969840"/>
            </a:xfrm>
          </p:grpSpPr>
          <p:sp>
            <p:nvSpPr>
              <p:cNvPr id="131" name="直接连接符 95"/>
              <p:cNvSpPr/>
              <p:nvPr/>
            </p:nvSpPr>
            <p:spPr>
              <a:xfrm>
                <a:off x="6914880" y="4421160"/>
                <a:ext cx="39528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2" name="文本框 36"/>
              <p:cNvSpPr/>
              <p:nvPr/>
            </p:nvSpPr>
            <p:spPr>
              <a:xfrm>
                <a:off x="6892560" y="3940200"/>
                <a:ext cx="719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cc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3" name="文本框 37"/>
              <p:cNvSpPr/>
              <p:nvPr/>
            </p:nvSpPr>
            <p:spPr>
              <a:xfrm>
                <a:off x="6889680" y="43286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cc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34" name="文本框 3"/>
            <p:cNvSpPr/>
            <p:nvPr/>
          </p:nvSpPr>
          <p:spPr>
            <a:xfrm>
              <a:off x="5646600" y="4191480"/>
              <a:ext cx="371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7200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×    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=1600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（元）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35" name="文本框 3"/>
          <p:cNvSpPr/>
          <p:nvPr/>
        </p:nvSpPr>
        <p:spPr>
          <a:xfrm>
            <a:off x="5757840" y="4795920"/>
            <a:ext cx="298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答：福娃的营业额是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60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lianxi"/>
          <p:cNvPicPr/>
          <p:nvPr/>
        </p:nvPicPr>
        <p:blipFill>
          <a:blip r:embed="rId1"/>
          <a:stretch/>
        </p:blipFill>
        <p:spPr>
          <a:xfrm>
            <a:off x="311040" y="457200"/>
            <a:ext cx="3378240" cy="4636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5"/>
          <p:cNvSpPr/>
          <p:nvPr/>
        </p:nvSpPr>
        <p:spPr>
          <a:xfrm>
            <a:off x="0" y="377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-4680" y="118584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⒈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先把数量关系式补充完整，再解答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⑴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桶油用去  ，正好用去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千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桶油多少千克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cc6600"/>
                </a:solidFill>
                <a:latin typeface="黑体"/>
                <a:ea typeface="黑体"/>
              </a:rPr>
              <a:t>（    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千克数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×  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＝</a:t>
            </a:r>
            <a:r>
              <a:rPr b="0" lang="zh-CN" sz="3200" spc="-1" strike="noStrike">
                <a:solidFill>
                  <a:srgbClr val="cc6600"/>
                </a:solidFill>
                <a:latin typeface="黑体"/>
                <a:ea typeface="黑体"/>
              </a:rPr>
              <a:t>（    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千克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9" name="Picture 14" descr=""/>
          <p:cNvPicPr/>
          <p:nvPr/>
        </p:nvPicPr>
        <p:blipFill>
          <a:blip r:embed="rId2"/>
          <a:stretch/>
        </p:blipFill>
        <p:spPr>
          <a:xfrm>
            <a:off x="3821040" y="2300400"/>
            <a:ext cx="503280" cy="971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"/>
          <p:cNvPicPr/>
          <p:nvPr/>
        </p:nvPicPr>
        <p:blipFill>
          <a:blip r:embed="rId3"/>
          <a:stretch/>
        </p:blipFill>
        <p:spPr>
          <a:xfrm>
            <a:off x="4200480" y="4103640"/>
            <a:ext cx="503280" cy="9716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8"/>
          <p:cNvSpPr/>
          <p:nvPr/>
        </p:nvSpPr>
        <p:spPr>
          <a:xfrm>
            <a:off x="0" y="377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lianxi"/>
          <p:cNvPicPr/>
          <p:nvPr/>
        </p:nvPicPr>
        <p:blipFill>
          <a:blip r:embed="rId1"/>
          <a:stretch/>
        </p:blipFill>
        <p:spPr>
          <a:xfrm>
            <a:off x="228600" y="399960"/>
            <a:ext cx="3332160" cy="4636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-157320" y="1020600"/>
            <a:ext cx="930132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⑵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学校饲养组养黑兔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只，是白兔只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  。饲养组养白兔多少只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3200" spc="-1" strike="noStrike">
                <a:solidFill>
                  <a:srgbClr val="cc6600"/>
                </a:solidFill>
                <a:latin typeface="黑体"/>
                <a:ea typeface="黑体"/>
              </a:rPr>
              <a:t>（     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只数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×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zh-CN" sz="3200" spc="-1" strike="noStrike">
                <a:solidFill>
                  <a:srgbClr val="cc6600"/>
                </a:solidFill>
                <a:latin typeface="黑体"/>
                <a:ea typeface="黑体"/>
              </a:rPr>
              <a:t>（</a:t>
            </a:r>
            <a:r>
              <a:rPr b="0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     </a:t>
            </a:r>
            <a:r>
              <a:rPr b="0" lang="zh-CN" sz="3200" spc="-1" strike="noStrike">
                <a:solidFill>
                  <a:srgbClr val="cc6600"/>
                </a:solidFill>
                <a:latin typeface="黑体"/>
                <a:ea typeface="黑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只数</a:t>
            </a:r>
            <a:r>
              <a:rPr b="0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377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0" y="377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6" name="Picture 11" descr=""/>
          <p:cNvPicPr/>
          <p:nvPr/>
        </p:nvPicPr>
        <p:blipFill>
          <a:blip r:embed="rId2"/>
          <a:stretch/>
        </p:blipFill>
        <p:spPr>
          <a:xfrm>
            <a:off x="1766880" y="2235240"/>
            <a:ext cx="536760" cy="97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"/>
          <p:cNvPicPr/>
          <p:nvPr/>
        </p:nvPicPr>
        <p:blipFill>
          <a:blip r:embed="rId3"/>
          <a:stretch/>
        </p:blipFill>
        <p:spPr>
          <a:xfrm>
            <a:off x="4489560" y="3433680"/>
            <a:ext cx="536400" cy="971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图片8"/>
          <p:cNvPicPr/>
          <p:nvPr/>
        </p:nvPicPr>
        <p:blipFill>
          <a:blip r:embed="rId4"/>
          <a:stretch/>
        </p:blipFill>
        <p:spPr>
          <a:xfrm>
            <a:off x="6284880" y="4344840"/>
            <a:ext cx="1874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293760" y="890640"/>
            <a:ext cx="641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1" name="Group 42"/>
          <p:cNvGrpSpPr/>
          <p:nvPr/>
        </p:nvGrpSpPr>
        <p:grpSpPr>
          <a:xfrm>
            <a:off x="946800" y="1353960"/>
            <a:ext cx="7112880" cy="1363680"/>
            <a:chOff x="946800" y="1353960"/>
            <a:chExt cx="7112880" cy="1363680"/>
          </a:xfrm>
        </p:grpSpPr>
        <p:pic>
          <p:nvPicPr>
            <p:cNvPr id="152" name="Picture 8" descr=""/>
            <p:cNvPicPr/>
            <p:nvPr/>
          </p:nvPicPr>
          <p:blipFill>
            <a:blip r:embed="rId1"/>
            <a:stretch/>
          </p:blipFill>
          <p:spPr>
            <a:xfrm>
              <a:off x="4233960" y="1425600"/>
              <a:ext cx="50328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2"/>
            <p:cNvSpPr/>
            <p:nvPr/>
          </p:nvSpPr>
          <p:spPr>
            <a:xfrm>
              <a:off x="1344600" y="1405080"/>
              <a:ext cx="671508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   ）的千克数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  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（     ）的千克数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" name="Text Box 13"/>
            <p:cNvSpPr/>
            <p:nvPr/>
          </p:nvSpPr>
          <p:spPr>
            <a:xfrm>
              <a:off x="946800" y="1413000"/>
              <a:ext cx="928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0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桶油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" name="Text Box 14"/>
            <p:cNvSpPr/>
            <p:nvPr/>
          </p:nvSpPr>
          <p:spPr>
            <a:xfrm>
              <a:off x="5830920" y="135396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用去的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56" name="Rectangle 19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7" name="Picture 21" descr="lianxi"/>
          <p:cNvPicPr/>
          <p:nvPr/>
        </p:nvPicPr>
        <p:blipFill>
          <a:blip r:embed="rId2"/>
          <a:stretch/>
        </p:blipFill>
        <p:spPr>
          <a:xfrm>
            <a:off x="266760" y="374760"/>
            <a:ext cx="3271680" cy="46332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40"/>
          <p:cNvGrpSpPr/>
          <p:nvPr/>
        </p:nvGrpSpPr>
        <p:grpSpPr>
          <a:xfrm>
            <a:off x="2075040" y="2401920"/>
            <a:ext cx="4514400" cy="3385800"/>
            <a:chOff x="2075040" y="2401920"/>
            <a:chExt cx="4514400" cy="3385800"/>
          </a:xfrm>
        </p:grpSpPr>
        <p:sp>
          <p:nvSpPr>
            <p:cNvPr id="159" name="Text Box 15"/>
            <p:cNvSpPr/>
            <p:nvPr/>
          </p:nvSpPr>
          <p:spPr>
            <a:xfrm>
              <a:off x="2075040" y="2401920"/>
              <a:ext cx="4514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解：设这桶油重</a:t>
              </a:r>
              <a:r>
                <a:rPr b="0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χ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千克。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χ ×   </a:t>
              </a:r>
              <a:r>
                <a:rPr b="0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2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   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χ </a:t>
              </a:r>
              <a:r>
                <a:rPr b="0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2 ÷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   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χ </a:t>
              </a:r>
              <a:r>
                <a:rPr b="0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2 ×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   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χ </a:t>
              </a:r>
              <a:r>
                <a:rPr b="0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0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答：这桶油</a:t>
              </a:r>
              <a:r>
                <a:rPr b="0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千克。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60" name="Group 39"/>
            <p:cNvGrpSpPr/>
            <p:nvPr/>
          </p:nvGrpSpPr>
          <p:grpSpPr>
            <a:xfrm>
              <a:off x="3652920" y="2938320"/>
              <a:ext cx="2561760" cy="1911600"/>
              <a:chOff x="3652920" y="2938320"/>
              <a:chExt cx="2561760" cy="1911600"/>
            </a:xfrm>
          </p:grpSpPr>
          <p:grpSp>
            <p:nvGrpSpPr>
              <p:cNvPr id="161" name="Group 30"/>
              <p:cNvGrpSpPr/>
              <p:nvPr/>
            </p:nvGrpSpPr>
            <p:grpSpPr>
              <a:xfrm>
                <a:off x="5925960" y="4094280"/>
                <a:ext cx="250560" cy="755640"/>
                <a:chOff x="5925960" y="4094280"/>
                <a:chExt cx="250560" cy="755640"/>
              </a:xfrm>
            </p:grpSpPr>
            <p:sp>
              <p:nvSpPr>
                <p:cNvPr id="162" name="Line 27"/>
                <p:cNvSpPr/>
                <p:nvPr/>
              </p:nvSpPr>
              <p:spPr>
                <a:xfrm>
                  <a:off x="5925960" y="4475160"/>
                  <a:ext cx="250560" cy="1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28"/>
                <p:cNvSpPr/>
                <p:nvPr/>
              </p:nvSpPr>
              <p:spPr>
                <a:xfrm>
                  <a:off x="5955840" y="4468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5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29"/>
                <p:cNvSpPr/>
                <p:nvPr/>
              </p:nvSpPr>
              <p:spPr>
                <a:xfrm>
                  <a:off x="5957640" y="40942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5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31"/>
              <p:cNvGrpSpPr/>
              <p:nvPr/>
            </p:nvGrpSpPr>
            <p:grpSpPr>
              <a:xfrm>
                <a:off x="3652920" y="2938320"/>
                <a:ext cx="250560" cy="755640"/>
                <a:chOff x="3652920" y="2938320"/>
                <a:chExt cx="250560" cy="755640"/>
              </a:xfrm>
            </p:grpSpPr>
            <p:sp>
              <p:nvSpPr>
                <p:cNvPr id="166" name="Line 32"/>
                <p:cNvSpPr/>
                <p:nvPr/>
              </p:nvSpPr>
              <p:spPr>
                <a:xfrm>
                  <a:off x="3652920" y="3319200"/>
                  <a:ext cx="250560" cy="1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33"/>
                <p:cNvSpPr/>
                <p:nvPr/>
              </p:nvSpPr>
              <p:spPr>
                <a:xfrm>
                  <a:off x="3682800" y="33127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5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8" name="Rectangle 34"/>
                <p:cNvSpPr/>
                <p:nvPr/>
              </p:nvSpPr>
              <p:spPr>
                <a:xfrm>
                  <a:off x="3684600" y="29383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5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35"/>
              <p:cNvGrpSpPr/>
              <p:nvPr/>
            </p:nvGrpSpPr>
            <p:grpSpPr>
              <a:xfrm>
                <a:off x="5964120" y="3433680"/>
                <a:ext cx="250560" cy="755640"/>
                <a:chOff x="5964120" y="3433680"/>
                <a:chExt cx="250560" cy="755640"/>
              </a:xfrm>
            </p:grpSpPr>
            <p:sp>
              <p:nvSpPr>
                <p:cNvPr id="170" name="Line 36"/>
                <p:cNvSpPr/>
                <p:nvPr/>
              </p:nvSpPr>
              <p:spPr>
                <a:xfrm>
                  <a:off x="5964120" y="3814560"/>
                  <a:ext cx="250560" cy="1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37"/>
                <p:cNvSpPr/>
                <p:nvPr/>
              </p:nvSpPr>
              <p:spPr>
                <a:xfrm>
                  <a:off x="5994000" y="38080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5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8"/>
                <p:cNvSpPr/>
                <p:nvPr/>
              </p:nvSpPr>
              <p:spPr>
                <a:xfrm>
                  <a:off x="5995800" y="3433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5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0" descr="lianxi"/>
          <p:cNvPicPr/>
          <p:nvPr/>
        </p:nvPicPr>
        <p:blipFill>
          <a:blip r:embed="rId1"/>
          <a:stretch/>
        </p:blipFill>
        <p:spPr>
          <a:xfrm>
            <a:off x="754200" y="399960"/>
            <a:ext cx="2824200" cy="4636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-12600" y="6793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⑵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）的只数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×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（     ）的只数</a:t>
            </a:r>
            <a:r>
              <a:rPr b="0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7" name="Picture 11" descr=""/>
          <p:cNvPicPr/>
          <p:nvPr/>
        </p:nvPicPr>
        <p:blipFill>
          <a:blip r:embed="rId2"/>
          <a:stretch/>
        </p:blipFill>
        <p:spPr>
          <a:xfrm>
            <a:off x="4226040" y="1539720"/>
            <a:ext cx="536400" cy="9716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2"/>
          <p:cNvSpPr/>
          <p:nvPr/>
        </p:nvSpPr>
        <p:spPr>
          <a:xfrm>
            <a:off x="1019520" y="127476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白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5837760" y="132408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黑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80" name="Group 25"/>
          <p:cNvGrpSpPr/>
          <p:nvPr/>
        </p:nvGrpSpPr>
        <p:grpSpPr>
          <a:xfrm>
            <a:off x="2444040" y="2592360"/>
            <a:ext cx="4514400" cy="3385800"/>
            <a:chOff x="2444040" y="2592360"/>
            <a:chExt cx="4514400" cy="3385800"/>
          </a:xfrm>
        </p:grpSpPr>
        <p:sp>
          <p:nvSpPr>
            <p:cNvPr id="181" name="Text Box 26"/>
            <p:cNvSpPr/>
            <p:nvPr/>
          </p:nvSpPr>
          <p:spPr>
            <a:xfrm>
              <a:off x="2444040" y="2592360"/>
              <a:ext cx="4514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解：设饲养组养白兔</a:t>
              </a:r>
              <a:r>
                <a:rPr b="0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χ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只。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χ ×   </a:t>
              </a:r>
              <a:r>
                <a:rPr b="0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2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   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χ </a:t>
              </a:r>
              <a:r>
                <a:rPr b="0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2 ÷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   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χ </a:t>
              </a:r>
              <a:r>
                <a:rPr b="0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2 ×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   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χ </a:t>
              </a:r>
              <a:r>
                <a:rPr b="0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8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答：饲养组养白兔</a:t>
              </a:r>
              <a:r>
                <a:rPr b="0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只。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82" name="Group 27"/>
            <p:cNvGrpSpPr/>
            <p:nvPr/>
          </p:nvGrpSpPr>
          <p:grpSpPr>
            <a:xfrm>
              <a:off x="3792600" y="3128760"/>
              <a:ext cx="2561760" cy="1911600"/>
              <a:chOff x="3792600" y="3128760"/>
              <a:chExt cx="2561760" cy="1911600"/>
            </a:xfrm>
          </p:grpSpPr>
          <p:grpSp>
            <p:nvGrpSpPr>
              <p:cNvPr id="183" name="Group 28"/>
              <p:cNvGrpSpPr/>
              <p:nvPr/>
            </p:nvGrpSpPr>
            <p:grpSpPr>
              <a:xfrm>
                <a:off x="6065640" y="4284720"/>
                <a:ext cx="250560" cy="755640"/>
                <a:chOff x="6065640" y="4284720"/>
                <a:chExt cx="250560" cy="755640"/>
              </a:xfrm>
            </p:grpSpPr>
            <p:sp>
              <p:nvSpPr>
                <p:cNvPr id="184" name="Line 29"/>
                <p:cNvSpPr/>
                <p:nvPr/>
              </p:nvSpPr>
              <p:spPr>
                <a:xfrm>
                  <a:off x="6065640" y="4665600"/>
                  <a:ext cx="250560" cy="1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30"/>
                <p:cNvSpPr/>
                <p:nvPr/>
              </p:nvSpPr>
              <p:spPr>
                <a:xfrm>
                  <a:off x="6095520" y="46591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31"/>
                <p:cNvSpPr/>
                <p:nvPr/>
              </p:nvSpPr>
              <p:spPr>
                <a:xfrm>
                  <a:off x="6097320" y="42847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5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32"/>
              <p:cNvGrpSpPr/>
              <p:nvPr/>
            </p:nvGrpSpPr>
            <p:grpSpPr>
              <a:xfrm>
                <a:off x="3792600" y="3128760"/>
                <a:ext cx="250560" cy="755640"/>
                <a:chOff x="3792600" y="3128760"/>
                <a:chExt cx="250560" cy="755640"/>
              </a:xfrm>
            </p:grpSpPr>
            <p:sp>
              <p:nvSpPr>
                <p:cNvPr id="188" name="Line 33"/>
                <p:cNvSpPr/>
                <p:nvPr/>
              </p:nvSpPr>
              <p:spPr>
                <a:xfrm>
                  <a:off x="3792600" y="3509640"/>
                  <a:ext cx="250560" cy="1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34"/>
                <p:cNvSpPr/>
                <p:nvPr/>
              </p:nvSpPr>
              <p:spPr>
                <a:xfrm>
                  <a:off x="3822480" y="350316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5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35"/>
                <p:cNvSpPr/>
                <p:nvPr/>
              </p:nvSpPr>
              <p:spPr>
                <a:xfrm>
                  <a:off x="3824280" y="312876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Group 36"/>
              <p:cNvGrpSpPr/>
              <p:nvPr/>
            </p:nvGrpSpPr>
            <p:grpSpPr>
              <a:xfrm>
                <a:off x="6103800" y="3624120"/>
                <a:ext cx="250560" cy="755640"/>
                <a:chOff x="6103800" y="3624120"/>
                <a:chExt cx="250560" cy="755640"/>
              </a:xfrm>
            </p:grpSpPr>
            <p:sp>
              <p:nvSpPr>
                <p:cNvPr id="192" name="Line 37"/>
                <p:cNvSpPr/>
                <p:nvPr/>
              </p:nvSpPr>
              <p:spPr>
                <a:xfrm>
                  <a:off x="6103800" y="4005000"/>
                  <a:ext cx="250560" cy="1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38"/>
                <p:cNvSpPr/>
                <p:nvPr/>
              </p:nvSpPr>
              <p:spPr>
                <a:xfrm>
                  <a:off x="6133680" y="39985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5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39"/>
                <p:cNvSpPr/>
                <p:nvPr/>
              </p:nvSpPr>
              <p:spPr>
                <a:xfrm>
                  <a:off x="6135480" y="36241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7"/>
          <p:cNvSpPr/>
          <p:nvPr/>
        </p:nvSpPr>
        <p:spPr>
          <a:xfrm>
            <a:off x="406440" y="1760400"/>
            <a:ext cx="8123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华看一本课外书，已经看了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书的  ，正好是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5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页。这本书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多少页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7" name="Picture 18" descr=""/>
          <p:cNvPicPr/>
          <p:nvPr/>
        </p:nvPicPr>
        <p:blipFill>
          <a:blip r:embed="rId1"/>
          <a:stretch/>
        </p:blipFill>
        <p:spPr>
          <a:xfrm>
            <a:off x="2354400" y="2344680"/>
            <a:ext cx="487080" cy="884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2" descr="lianxi"/>
          <p:cNvPicPr/>
          <p:nvPr/>
        </p:nvPicPr>
        <p:blipFill>
          <a:blip r:embed="rId2"/>
          <a:stretch/>
        </p:blipFill>
        <p:spPr>
          <a:xfrm>
            <a:off x="254160" y="488880"/>
            <a:ext cx="3193920" cy="463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6" descr="图片8"/>
          <p:cNvPicPr/>
          <p:nvPr/>
        </p:nvPicPr>
        <p:blipFill>
          <a:blip r:embed="rId3"/>
          <a:stretch/>
        </p:blipFill>
        <p:spPr>
          <a:xfrm>
            <a:off x="6222960" y="3664080"/>
            <a:ext cx="23241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5" descr="lianxi"/>
          <p:cNvPicPr/>
          <p:nvPr/>
        </p:nvPicPr>
        <p:blipFill>
          <a:blip r:embed="rId1"/>
          <a:stretch/>
        </p:blipFill>
        <p:spPr>
          <a:xfrm>
            <a:off x="577800" y="428760"/>
            <a:ext cx="2824200" cy="46332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9"/>
          <p:cNvGrpSpPr/>
          <p:nvPr/>
        </p:nvGrpSpPr>
        <p:grpSpPr>
          <a:xfrm>
            <a:off x="1820160" y="1601640"/>
            <a:ext cx="4514400" cy="3385800"/>
            <a:chOff x="1820160" y="1601640"/>
            <a:chExt cx="4514400" cy="3385800"/>
          </a:xfrm>
        </p:grpSpPr>
        <p:sp>
          <p:nvSpPr>
            <p:cNvPr id="202" name="Text Box 20"/>
            <p:cNvSpPr/>
            <p:nvPr/>
          </p:nvSpPr>
          <p:spPr>
            <a:xfrm>
              <a:off x="1820160" y="1601640"/>
              <a:ext cx="4514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解：设这本书有</a:t>
              </a:r>
              <a:r>
                <a:rPr b="0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χ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页。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χ ×   </a:t>
              </a:r>
              <a:r>
                <a:rPr b="0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5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   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χ </a:t>
              </a:r>
              <a:r>
                <a:rPr b="0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5 ÷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   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χ </a:t>
              </a:r>
              <a:r>
                <a:rPr b="0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5 ×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   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χ </a:t>
              </a:r>
              <a:r>
                <a:rPr b="0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00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答：这本书有</a:t>
              </a:r>
              <a:r>
                <a:rPr b="0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0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页。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03" name="Group 21"/>
            <p:cNvGrpSpPr/>
            <p:nvPr/>
          </p:nvGrpSpPr>
          <p:grpSpPr>
            <a:xfrm>
              <a:off x="3627720" y="2138040"/>
              <a:ext cx="2561760" cy="1911600"/>
              <a:chOff x="3627720" y="2138040"/>
              <a:chExt cx="2561760" cy="1911600"/>
            </a:xfrm>
          </p:grpSpPr>
          <p:grpSp>
            <p:nvGrpSpPr>
              <p:cNvPr id="204" name="Group 22"/>
              <p:cNvGrpSpPr/>
              <p:nvPr/>
            </p:nvGrpSpPr>
            <p:grpSpPr>
              <a:xfrm>
                <a:off x="5900760" y="3294000"/>
                <a:ext cx="250560" cy="755640"/>
                <a:chOff x="5900760" y="3294000"/>
                <a:chExt cx="250560" cy="755640"/>
              </a:xfrm>
            </p:grpSpPr>
            <p:sp>
              <p:nvSpPr>
                <p:cNvPr id="205" name="Line 23"/>
                <p:cNvSpPr/>
                <p:nvPr/>
              </p:nvSpPr>
              <p:spPr>
                <a:xfrm>
                  <a:off x="5900760" y="3674880"/>
                  <a:ext cx="250560" cy="1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06" name="Rectangle 24"/>
                <p:cNvSpPr/>
                <p:nvPr/>
              </p:nvSpPr>
              <p:spPr>
                <a:xfrm>
                  <a:off x="5930640" y="36684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5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25"/>
                <p:cNvSpPr/>
                <p:nvPr/>
              </p:nvSpPr>
              <p:spPr>
                <a:xfrm>
                  <a:off x="5932440" y="32940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5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26"/>
              <p:cNvGrpSpPr/>
              <p:nvPr/>
            </p:nvGrpSpPr>
            <p:grpSpPr>
              <a:xfrm>
                <a:off x="3627720" y="2138040"/>
                <a:ext cx="250560" cy="755640"/>
                <a:chOff x="3627720" y="2138040"/>
                <a:chExt cx="250560" cy="755640"/>
              </a:xfrm>
            </p:grpSpPr>
            <p:sp>
              <p:nvSpPr>
                <p:cNvPr id="209" name="Line 27"/>
                <p:cNvSpPr/>
                <p:nvPr/>
              </p:nvSpPr>
              <p:spPr>
                <a:xfrm>
                  <a:off x="3627720" y="2518920"/>
                  <a:ext cx="250560" cy="1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28"/>
                <p:cNvSpPr/>
                <p:nvPr/>
              </p:nvSpPr>
              <p:spPr>
                <a:xfrm>
                  <a:off x="3657600" y="251244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5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11" name="Rectangle 29"/>
                <p:cNvSpPr/>
                <p:nvPr/>
              </p:nvSpPr>
              <p:spPr>
                <a:xfrm>
                  <a:off x="3659400" y="213804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5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30"/>
              <p:cNvGrpSpPr/>
              <p:nvPr/>
            </p:nvGrpSpPr>
            <p:grpSpPr>
              <a:xfrm>
                <a:off x="5938920" y="2633400"/>
                <a:ext cx="250560" cy="755640"/>
                <a:chOff x="5938920" y="2633400"/>
                <a:chExt cx="250560" cy="755640"/>
              </a:xfrm>
            </p:grpSpPr>
            <p:sp>
              <p:nvSpPr>
                <p:cNvPr id="213" name="Line 31"/>
                <p:cNvSpPr/>
                <p:nvPr/>
              </p:nvSpPr>
              <p:spPr>
                <a:xfrm>
                  <a:off x="5938920" y="3014280"/>
                  <a:ext cx="250560" cy="1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14" name="Rectangle 32"/>
                <p:cNvSpPr/>
                <p:nvPr/>
              </p:nvSpPr>
              <p:spPr>
                <a:xfrm>
                  <a:off x="5968800" y="30078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5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3"/>
                <p:cNvSpPr/>
                <p:nvPr/>
              </p:nvSpPr>
              <p:spPr>
                <a:xfrm>
                  <a:off x="5970600" y="26334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5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01:46:04Z</dcterms:created>
  <dc:creator/>
  <dc:description/>
  <cp:keywords/>
  <dc:language>en-US</dc:language>
  <cp:lastModifiedBy>User</cp:lastModifiedBy>
  <dcterms:modified xsi:type="dcterms:W3CDTF">2017-12-21T14:08:25Z</dcterms:modified>
  <cp:revision>9</cp:revision>
  <dc:subject/>
  <dc:title>简单的分数应用问题</dc:title>
</cp:coreProperties>
</file>